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8354BBD-7370-4E86-A36D-6EDFE357413F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261800" y="725040"/>
            <a:ext cx="477828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1385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3856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385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3856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385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856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385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3856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ffff99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910908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-14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76480" cy="35830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6DABE2-95F3-4048-A3F2-C0CAF055D717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486080" y="911160"/>
            <a:ext cx="4375080" cy="32828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36520" y="4514760"/>
            <a:ext cx="50799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49E32A-6448-416E-BFE6-75F6027CD7ED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486080" y="911160"/>
            <a:ext cx="4375080" cy="32828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36520" y="4514760"/>
            <a:ext cx="50799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E80988-5378-4E75-ABF0-57347D22DF37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486080" y="911160"/>
            <a:ext cx="4375080" cy="32828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36520" y="4514760"/>
            <a:ext cx="50799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65FFF6-5AF1-422C-85EC-BB93497C138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486080" y="911160"/>
            <a:ext cx="4375080" cy="32828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36520" y="4514760"/>
            <a:ext cx="50799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69884D-2D19-4BA9-9BF8-1A576DE64D57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486080" y="911160"/>
            <a:ext cx="4375080" cy="32828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36520" y="4514760"/>
            <a:ext cx="50799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F8ACA3-B04A-4F16-9620-78BB52DD3433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486080" y="911160"/>
            <a:ext cx="4375080" cy="32828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36520" y="4514760"/>
            <a:ext cx="50799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86B-3B0E-4D0D-A84C-65AF250C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1DB-FF2C-4241-AD9C-3F5C36E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199-B586-4FB8-B86B-04E7AD9D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B76-BFF7-4552-8DAB-6F6D795C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76E-A7CE-46AE-B32A-A5D5AEBC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3E1-D09F-4B9D-B1EA-E87F994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623-401E-4D64-9C1E-81B86343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9DA-1F71-4F0B-90EA-41D55A81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54A-B25F-4AF0-B4BB-465093FB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295-57B4-4D3C-A30A-4024479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E04-3DD6-4A15-A7CD-920A7BD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4FE-7B38-4F45-9187-8D4DE33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F07-ADC4-4A2E-A260-18F119FAF865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581280"/>
            <a:ext cx="8026560" cy="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DM Workshop</a:t>
            </a:r>
            <a:br>
              <a:rPr sz="4000"/>
            </a:br>
            <a:br>
              <a:rPr sz="8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“Extending Interoperability of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Digital Librarie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uilding on the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Open Archives Initiative”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oanoke, VA – October 4, 2000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Edward A. Fox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x@vt.edu      http://fox.cs.vt.edu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S            DLRL           Internet TIC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irginia Tech, Blacksburg, VA, US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854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ered Model of Interoperabil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8458200" cy="764280"/>
          </a:xfrm>
          <a:prstGeom prst="rect">
            <a:avLst/>
          </a:prstGeom>
          <a:noFill/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ediator servic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429000"/>
            <a:ext cx="8458200" cy="76428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724280"/>
            <a:ext cx="8458200" cy="764280"/>
          </a:xfrm>
          <a:prstGeom prst="rect">
            <a:avLst/>
          </a:prstGeom>
          <a:noFill/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ocument mode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pository of Digital Object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7391160" cy="495288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5160" y="1501920"/>
            <a:ext cx="21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epository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Access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Protocol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666880"/>
            <a:ext cx="3124440" cy="1752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3657600"/>
            <a:ext cx="3124440" cy="243828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657600"/>
            <a:ext cx="31244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133720"/>
            <a:ext cx="2971800" cy="20574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2800" y="17305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handl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8240" y="5257800"/>
            <a:ext cx="26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Digital object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2120" y="449568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erms and conditio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4191120"/>
            <a:ext cx="196200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0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etadat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724280"/>
            <a:ext cx="1218960" cy="0"/>
          </a:xfrm>
          <a:prstGeom prst="line">
            <a:avLst/>
          </a:prstGeom>
          <a:ln w="50760">
            <a:solidFill>
              <a:srgbClr val="ffff99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AI – Repository Persp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1600200"/>
            <a:ext cx="5181480" cy="449568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066680"/>
            <a:ext cx="365760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quired: Protoco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9676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9676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7804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276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976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804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276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976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81280" y="1600200"/>
            <a:ext cx="22100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t Struc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5520" y="2971800"/>
            <a:ext cx="30765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D Sche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105520"/>
            <a:ext cx="518148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4495680"/>
            <a:ext cx="286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quired: DC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AI – Black Box Persp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4724280"/>
            <a:ext cx="1143000" cy="673200"/>
            <a:chOff x="1143000" y="4724280"/>
            <a:chExt cx="1143000" cy="673200"/>
          </a:xfrm>
        </p:grpSpPr>
        <p:sp>
          <p:nvSpPr>
            <p:cNvPr id="110" name=""/>
            <p:cNvSpPr/>
            <p:nvPr/>
          </p:nvSpPr>
          <p:spPr>
            <a:xfrm>
              <a:off x="1143000" y="487692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1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724280"/>
              <a:ext cx="22860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057400" y="3962520"/>
            <a:ext cx="1143000" cy="672840"/>
            <a:chOff x="2057400" y="3962520"/>
            <a:chExt cx="1143000" cy="672840"/>
          </a:xfrm>
        </p:grpSpPr>
        <p:sp>
          <p:nvSpPr>
            <p:cNvPr id="113" name=""/>
            <p:cNvSpPr/>
            <p:nvPr/>
          </p:nvSpPr>
          <p:spPr>
            <a:xfrm>
              <a:off x="2057400" y="411480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2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3962520"/>
              <a:ext cx="2286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124080" y="3200400"/>
            <a:ext cx="1143000" cy="672840"/>
            <a:chOff x="3124080" y="3200400"/>
            <a:chExt cx="1143000" cy="672840"/>
          </a:xfrm>
        </p:grpSpPr>
        <p:sp>
          <p:nvSpPr>
            <p:cNvPr id="116" name=""/>
            <p:cNvSpPr/>
            <p:nvPr/>
          </p:nvSpPr>
          <p:spPr>
            <a:xfrm>
              <a:off x="3124080" y="335268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4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3200400"/>
              <a:ext cx="2286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76720" y="3962520"/>
            <a:ext cx="1143000" cy="672840"/>
            <a:chOff x="3276720" y="3962520"/>
            <a:chExt cx="1143000" cy="672840"/>
          </a:xfrm>
        </p:grpSpPr>
        <p:sp>
          <p:nvSpPr>
            <p:cNvPr id="119" name=""/>
            <p:cNvSpPr/>
            <p:nvPr/>
          </p:nvSpPr>
          <p:spPr>
            <a:xfrm>
              <a:off x="3276720" y="411480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3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120" y="3962520"/>
              <a:ext cx="2286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629400" y="4800600"/>
            <a:ext cx="1143000" cy="672840"/>
            <a:chOff x="6629400" y="4800600"/>
            <a:chExt cx="1143000" cy="672840"/>
          </a:xfrm>
        </p:grpSpPr>
        <p:sp>
          <p:nvSpPr>
            <p:cNvPr id="122" name=""/>
            <p:cNvSpPr/>
            <p:nvPr/>
          </p:nvSpPr>
          <p:spPr>
            <a:xfrm>
              <a:off x="6629400" y="495288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5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800600"/>
              <a:ext cx="2286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81480" y="4800600"/>
            <a:ext cx="1143000" cy="672840"/>
            <a:chOff x="5181480" y="4800600"/>
            <a:chExt cx="1143000" cy="672840"/>
          </a:xfrm>
        </p:grpSpPr>
        <p:sp>
          <p:nvSpPr>
            <p:cNvPr id="125" name=""/>
            <p:cNvSpPr/>
            <p:nvPr/>
          </p:nvSpPr>
          <p:spPr>
            <a:xfrm>
              <a:off x="5181480" y="495288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6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4800600"/>
              <a:ext cx="2286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8480" y="2438280"/>
            <a:ext cx="1143000" cy="673200"/>
            <a:chOff x="4038480" y="2438280"/>
            <a:chExt cx="1143000" cy="673200"/>
          </a:xfrm>
        </p:grpSpPr>
        <p:sp>
          <p:nvSpPr>
            <p:cNvPr id="128" name=""/>
            <p:cNvSpPr/>
            <p:nvPr/>
          </p:nvSpPr>
          <p:spPr>
            <a:xfrm>
              <a:off x="4038480" y="2590920"/>
              <a:ext cx="11430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A 7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2438280"/>
              <a:ext cx="22860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648320" y="3200400"/>
            <a:ext cx="1600200" cy="160020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124080"/>
            <a:ext cx="2514600" cy="16765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lack Box OAI-ETD Persp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715000" y="3809880"/>
            <a:ext cx="1599840" cy="1397880"/>
            <a:chOff x="5715000" y="3809880"/>
            <a:chExt cx="1599840" cy="1397880"/>
          </a:xfrm>
        </p:grpSpPr>
        <p:sp>
          <p:nvSpPr>
            <p:cNvPr id="134" name=""/>
            <p:cNvSpPr/>
            <p:nvPr/>
          </p:nvSpPr>
          <p:spPr>
            <a:xfrm>
              <a:off x="5715000" y="3962520"/>
              <a:ext cx="1599840" cy="124524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ISTEC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Ibero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America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94800" y="3809880"/>
              <a:ext cx="31968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543800" y="3809880"/>
            <a:ext cx="1447560" cy="673200"/>
            <a:chOff x="7543800" y="3809880"/>
            <a:chExt cx="1447560" cy="673200"/>
          </a:xfrm>
        </p:grpSpPr>
        <p:sp>
          <p:nvSpPr>
            <p:cNvPr id="137" name=""/>
            <p:cNvSpPr/>
            <p:nvPr/>
          </p:nvSpPr>
          <p:spPr>
            <a:xfrm>
              <a:off x="7543800" y="3962520"/>
              <a:ext cx="144756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PhysDis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1920" y="3809880"/>
              <a:ext cx="28944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15200" y="5486400"/>
            <a:ext cx="1676160" cy="1099800"/>
            <a:chOff x="7315200" y="5486400"/>
            <a:chExt cx="1676160" cy="1099800"/>
          </a:xfrm>
        </p:grpSpPr>
        <p:sp>
          <p:nvSpPr>
            <p:cNvPr id="140" name=""/>
            <p:cNvSpPr/>
            <p:nvPr/>
          </p:nvSpPr>
          <p:spPr>
            <a:xfrm>
              <a:off x="7315200" y="5639040"/>
              <a:ext cx="167616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NSYSU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Taiwan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56200" y="5486400"/>
              <a:ext cx="33516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162920" y="2209680"/>
            <a:ext cx="1828440" cy="1099800"/>
            <a:chOff x="7162920" y="2209680"/>
            <a:chExt cx="1828440" cy="1099800"/>
          </a:xfrm>
        </p:grpSpPr>
        <p:sp>
          <p:nvSpPr>
            <p:cNvPr id="143" name=""/>
            <p:cNvSpPr/>
            <p:nvPr/>
          </p:nvSpPr>
          <p:spPr>
            <a:xfrm>
              <a:off x="7162920" y="2362320"/>
              <a:ext cx="182844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ADT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Australia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25600" y="2209680"/>
              <a:ext cx="36540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280" y="2209680"/>
            <a:ext cx="1752480" cy="1099800"/>
            <a:chOff x="152280" y="2209680"/>
            <a:chExt cx="1752480" cy="1099800"/>
          </a:xfrm>
        </p:grpSpPr>
        <p:sp>
          <p:nvSpPr>
            <p:cNvPr id="146" name=""/>
            <p:cNvSpPr/>
            <p:nvPr/>
          </p:nvSpPr>
          <p:spPr>
            <a:xfrm>
              <a:off x="152280" y="2362320"/>
              <a:ext cx="175248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BN.PT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Portugal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54120" y="2209680"/>
              <a:ext cx="35028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71800" y="914400"/>
            <a:ext cx="2590200" cy="672840"/>
            <a:chOff x="2971800" y="914400"/>
            <a:chExt cx="2590200" cy="672840"/>
          </a:xfrm>
        </p:grpSpPr>
        <p:sp>
          <p:nvSpPr>
            <p:cNvPr id="149" name=""/>
            <p:cNvSpPr/>
            <p:nvPr/>
          </p:nvSpPr>
          <p:spPr>
            <a:xfrm>
              <a:off x="2971800" y="1066680"/>
              <a:ext cx="25902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www.theses.org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3960" y="914400"/>
              <a:ext cx="51804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648320" y="2209680"/>
            <a:ext cx="2361240" cy="1099800"/>
            <a:chOff x="4648320" y="2209680"/>
            <a:chExt cx="2361240" cy="1099800"/>
          </a:xfrm>
        </p:grpSpPr>
        <p:sp>
          <p:nvSpPr>
            <p:cNvPr id="152" name=""/>
            <p:cNvSpPr/>
            <p:nvPr/>
          </p:nvSpPr>
          <p:spPr>
            <a:xfrm>
              <a:off x="4648320" y="2362320"/>
              <a:ext cx="236124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CyberTheses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Francophone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7240" y="2209680"/>
              <a:ext cx="47196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276720" y="5486400"/>
            <a:ext cx="761760" cy="672840"/>
            <a:chOff x="3276720" y="5486400"/>
            <a:chExt cx="761760" cy="672840"/>
          </a:xfrm>
        </p:grpSpPr>
        <p:sp>
          <p:nvSpPr>
            <p:cNvPr id="155" name=""/>
            <p:cNvSpPr/>
            <p:nvPr/>
          </p:nvSpPr>
          <p:spPr>
            <a:xfrm>
              <a:off x="3276720" y="5638680"/>
              <a:ext cx="76176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VT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5486400"/>
              <a:ext cx="15228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57400" y="2209680"/>
            <a:ext cx="2437560" cy="1099800"/>
            <a:chOff x="2057400" y="2209680"/>
            <a:chExt cx="2437560" cy="1099800"/>
          </a:xfrm>
        </p:grpSpPr>
        <p:sp>
          <p:nvSpPr>
            <p:cNvPr id="158" name=""/>
            <p:cNvSpPr/>
            <p:nvPr/>
          </p:nvSpPr>
          <p:spPr>
            <a:xfrm>
              <a:off x="2057400" y="2362320"/>
              <a:ext cx="243756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Dissert.Online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Germany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7520" y="2209680"/>
              <a:ext cx="48744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267080" y="5486400"/>
            <a:ext cx="914400" cy="672840"/>
            <a:chOff x="4267080" y="5486400"/>
            <a:chExt cx="914400" cy="672840"/>
          </a:xfrm>
        </p:grpSpPr>
        <p:sp>
          <p:nvSpPr>
            <p:cNvPr id="161" name=""/>
            <p:cNvSpPr/>
            <p:nvPr/>
          </p:nvSpPr>
          <p:spPr>
            <a:xfrm>
              <a:off x="4267080" y="5638680"/>
              <a:ext cx="91440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MIT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8600" y="5486400"/>
              <a:ext cx="18288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5486400"/>
            <a:ext cx="1828440" cy="672840"/>
            <a:chOff x="152280" y="5486400"/>
            <a:chExt cx="1828440" cy="672840"/>
          </a:xfrm>
        </p:grpSpPr>
        <p:sp>
          <p:nvSpPr>
            <p:cNvPr id="164" name=""/>
            <p:cNvSpPr/>
            <p:nvPr/>
          </p:nvSpPr>
          <p:spPr>
            <a:xfrm>
              <a:off x="152280" y="5638680"/>
              <a:ext cx="182844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OhioLINK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4960" y="5486400"/>
              <a:ext cx="3654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3809880"/>
            <a:ext cx="2057040" cy="1099800"/>
            <a:chOff x="1828800" y="3809880"/>
            <a:chExt cx="2057040" cy="1099800"/>
          </a:xfrm>
        </p:grpSpPr>
        <p:sp>
          <p:nvSpPr>
            <p:cNvPr id="167" name=""/>
            <p:cNvSpPr/>
            <p:nvPr/>
          </p:nvSpPr>
          <p:spPr>
            <a:xfrm>
              <a:off x="1828800" y="3962520"/>
              <a:ext cx="205704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CBUC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Catalunya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74360" y="3809880"/>
              <a:ext cx="41112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038480" y="3809880"/>
            <a:ext cx="1523880" cy="1099800"/>
            <a:chOff x="4038480" y="3809880"/>
            <a:chExt cx="1523880" cy="1099800"/>
          </a:xfrm>
        </p:grpSpPr>
        <p:sp>
          <p:nvSpPr>
            <p:cNvPr id="170" name=""/>
            <p:cNvSpPr/>
            <p:nvPr/>
          </p:nvSpPr>
          <p:spPr>
            <a:xfrm>
              <a:off x="4038480" y="3962520"/>
              <a:ext cx="152388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NDC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Greece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440" y="3809880"/>
              <a:ext cx="30456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2280" y="3809880"/>
            <a:ext cx="1523880" cy="1099800"/>
            <a:chOff x="152280" y="3809880"/>
            <a:chExt cx="1523880" cy="1099800"/>
          </a:xfrm>
        </p:grpSpPr>
        <p:sp>
          <p:nvSpPr>
            <p:cNvPr id="173" name=""/>
            <p:cNvSpPr/>
            <p:nvPr/>
          </p:nvSpPr>
          <p:spPr>
            <a:xfrm>
              <a:off x="152280" y="3962520"/>
              <a:ext cx="152388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NDC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Greece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1240" y="3809880"/>
              <a:ext cx="30456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09680" y="5486400"/>
            <a:ext cx="838440" cy="672840"/>
            <a:chOff x="2209680" y="5486400"/>
            <a:chExt cx="838440" cy="672840"/>
          </a:xfrm>
        </p:grpSpPr>
        <p:sp>
          <p:nvSpPr>
            <p:cNvPr id="176" name=""/>
            <p:cNvSpPr/>
            <p:nvPr/>
          </p:nvSpPr>
          <p:spPr>
            <a:xfrm>
              <a:off x="2209680" y="5638680"/>
              <a:ext cx="838440" cy="5205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CIC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80360" y="5486400"/>
              <a:ext cx="167400" cy="15228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334120" y="5486400"/>
            <a:ext cx="1828440" cy="1099800"/>
            <a:chOff x="5334120" y="5486400"/>
            <a:chExt cx="1828440" cy="1099800"/>
          </a:xfrm>
        </p:grpSpPr>
        <p:sp>
          <p:nvSpPr>
            <p:cNvPr id="179" name=""/>
            <p:cNvSpPr/>
            <p:nvPr/>
          </p:nvSpPr>
          <p:spPr>
            <a:xfrm>
              <a:off x="5334120" y="5639040"/>
              <a:ext cx="1828440" cy="947160"/>
            </a:xfrm>
            <a:prstGeom prst="rect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U. Bergen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(Norway)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96800" y="5486400"/>
              <a:ext cx="365400" cy="152640"/>
            </a:xfrm>
            <a:prstGeom prst="rect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V="1">
            <a:off x="1752480" y="1676160"/>
            <a:ext cx="2514600" cy="5331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67080" y="1676160"/>
            <a:ext cx="0" cy="5331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266720" y="1676160"/>
            <a:ext cx="2514600" cy="5331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267080" y="1676160"/>
            <a:ext cx="4572000" cy="5331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34320" y="971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8840" y="5851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854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pproaches to Open Archi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362320" y="236232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720" y="2362320"/>
            <a:ext cx="22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Build B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Discipline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5280" y="137160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Build By Instituti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854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pproaches to Open Archi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362320" y="236232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720" y="2362320"/>
            <a:ext cx="22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Build B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Discipline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5280" y="137160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Build By Instituti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720" y="4419720"/>
            <a:ext cx="220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terdisciplinar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Query …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4114800"/>
            <a:ext cx="121932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har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Join initiative, run softwar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ake metadata and archive availab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ggregat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y disciplin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y institu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y genr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utomat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arvesting and providing servic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Federated search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ynamic linking (e.g., with SFX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4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VT View of the </a:t>
            </a:r>
            <a:br>
              <a:rPr sz="4400"/>
            </a:b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Open Archives Initiative (OAI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Enable sharing of publication metadata and full-text by digital libra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andardize low-level mechanisms to share contents of libra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Build higher-level user-centric and administrative services in meta-libra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Install organizational mechanisms to support the technical process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Virginia Tech Proj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MARC XML-DTD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Computer Science Teaching Centre (CSTC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W3C Web Characterization Repository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OAI Repository Explorer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Networked Digital Library of Theses and Dissertations (NDLTD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OAI-Campus (esp. multimedia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knowledgements (Selected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ponsors: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CNI, DLF, Dept. of Energy, DFG, NASA, NSF, …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VT Faculty/Staff: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Anthony Atkins, …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VT Students: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Fernando Das Neves, George Fillipini, Robert France, Marcos Goncalves, Hussein Suleman, …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MARC XML-DT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XML Transport format for US-MARC records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Standardized metadata exchange format for traditional library services joining OAI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CS Teaching Center (CSTC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Collection of reviewed online resources used to aid in teaching of Computer Scienc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Supports author submission and peer-review process for new ACM Journal of Educational Resources In Computing (JERIC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Connected with NSDL (NSF 00-44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99"/>
                </a:solidFill>
                <a:latin typeface="Times New Roman"/>
              </a:rPr>
              <a:t>http://www.cstc.org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0912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W3C Web Characterization Reposi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9154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Online database of metadata related to publications, tools and data sets dealing with Web characteriz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Times New Roman"/>
              </a:rPr>
              <a:t>Project of the Web Characterization Activity working group of the World-Wide-Web Consortium (www.w3c.org/WCA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99"/>
                </a:solidFill>
                <a:latin typeface="Times New Roman"/>
              </a:rPr>
              <a:t>http://purl.org/net/repository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OAI Repository Explor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rves as a compliancy tes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Allows browsing of open archives using only OAI protoco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nds requests on behalf of user, parses and checks responses and displays browsable interfa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Will detect most discrepancies in protoco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312"/>
              </a:spcAft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Times New Roman"/>
              </a:rPr>
              <a:t>http://purl.org/net/explorer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A100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886200" cy="271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imes New Roman"/>
              </a:rPr>
              <a:t>Open Archives Initiative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Times New Roman"/>
              </a:rPr>
              <a:t>OAI</a:t>
            </a:r>
            <a:endParaRPr b="0" lang="en-US" sz="72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ww.openarchives.org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0640" y="5791320"/>
            <a:ext cx="81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openarchives@openarchives.org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AI-Camp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6574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ndergrad term project for Honors course on digital libra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im is to have many OAs on campu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mphasis will be on multimedia collectio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urvey developed for campus: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http://intercom.virginia.edu/SurveySuite/Surveys/OAiVT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unding Succes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NSF-DFG / VT-Oldenburg: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AI research for next 3 yea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 countr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 domai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hysic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lectronic theses and dissertations (ETDs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volution of existing efforts to use OAI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inement of services as ontologies develop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ONACyT award expected with UDLA, Monterrey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Development Effor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ornell Softwa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os Alamos Softwa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uthampton Softwa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ODU Softwa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Other Softwa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egistered Archi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T -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657440"/>
            <a:ext cx="899172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eneral purpose tools: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ussein’s PERL implementatio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rcos’ Java implementatio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AI Repository Explorer – Version 2 </a:t>
            </a:r>
            <a:r>
              <a:rPr b="0" lang="en-GB" sz="4400" spc="-1" strike="noStrike">
                <a:solidFill>
                  <a:srgbClr val="ffff99"/>
                </a:solidFill>
                <a:latin typeface="Times New Roman"/>
              </a:rPr>
              <a:t>http://purl.org/net/explore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T -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657440"/>
            <a:ext cx="868680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NSDL / XXDL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Bill Graves, Collegis/Edupris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M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UNC Wilmingto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hemistry, CS, Math, …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STC already involved in O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T -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657440"/>
            <a:ext cx="868680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MARIAN: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volved from CODER (~1987)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C/C++ version: SIGIR’93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Research and production DL system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arvest/Gateway: Dienst, “Harvest”, OAI, Z39.59 + OAI to Greenstone, Emerge, Phronesi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426708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ww.theses.org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1600200"/>
            <a:ext cx="5181480" cy="449568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1066680"/>
            <a:ext cx="365760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AI Protoco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5257800"/>
            <a:ext cx="762120" cy="52056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9676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9676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7804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8276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39760" y="44956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804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8276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9760" y="373392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5105520"/>
            <a:ext cx="518148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280" y="4495680"/>
            <a:ext cx="2943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OAI: DC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3441600" y="1828800"/>
            <a:ext cx="2314440" cy="5205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ts by subjec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32520" y="1828800"/>
            <a:ext cx="2158920" cy="5205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ts by origi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280" y="365760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ETDs: qualified DC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596760" y="28954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78040" y="28954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82760" y="28954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760" y="2895480"/>
            <a:ext cx="874080" cy="459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MD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819520"/>
            <a:ext cx="304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Optional: MARC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499320" y="152280"/>
            <a:ext cx="1619280" cy="52056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IA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6172200"/>
            <a:ext cx="117000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iens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37480" y="152280"/>
            <a:ext cx="1067760" cy="52056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TL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543800" y="761760"/>
            <a:ext cx="685800" cy="5331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133720" y="761760"/>
            <a:ext cx="1752480" cy="5331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6172200"/>
            <a:ext cx="144792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arves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6172200"/>
            <a:ext cx="144792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Z39.50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172200"/>
            <a:ext cx="144756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AI - 1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6172200"/>
            <a:ext cx="1447920" cy="52056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AI - 2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6172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-25560"/>
            <a:ext cx="75438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ical Overview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eeting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nta Fe – “archives of the world unite”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epositories / Building on Black Box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pproaches to building repositori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T view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me proposals for fund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evelopment effort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Archives Initiative (OAI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xxx@LANL, high-energy physics (Ginsparg, 1991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STR + WATERS = NCSTRL (Lagoze,1994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xxx + NCSTRL = CoRR collaboration (1998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niversal Preprint Service protoproto, Oct. 21-22, 1999, Santa Fe – led by LANL, CNI, DLF, Mellon  --&gt;  OAi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nta Fe Convention (see Feb. D-Lib Magazine articl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low-on mtgs: 6/3@San Antonio, 9/21@Lisbon (ECDL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rchives -&gt; Open Archiv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upport unique archive identifi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mplement Open Archives metadata set (DC, using XML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mplement OA harvesting protocol (derived from Dienst protocol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Register the archiv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uild tools, layer other services: linking, searching, …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Archives (protoproto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ArXiv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  &amp; Los Alamos National Lab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CogPrints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  &amp; U. Southampt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NACA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 &amp; NASA (reports)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NCSTRL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 &amp; Cornell U.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NDLTD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 &amp; Virginia Tech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RePEc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 &amp; U. Surre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Total of around 200K record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Original Open Archives Memb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4960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merican Physical Socie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lifornia Digital Librar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ltec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alition for Networked Info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rnell Univers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rvard Univers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brary of Congres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s Alamos Nat’l Lab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llon Found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320" y="1657080"/>
            <a:ext cx="44960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SA Langley Research Cnt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ld Dominion University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nford Univers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. of Gh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. of Surre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. of Southampt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anderbilt Univers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irginia Tec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ashington Univers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Open Archives Future – 1</a:t>
            </a:r>
            <a:r>
              <a:rPr b="1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View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EconWPA (U. Washington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e-biomed -&gt; PubMed Central (NIH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PubScience (DOE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Clinical Medicine Netprints (+ other HighWire Press holdings 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University ePub (California Digital Library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All public e-prints (MIT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Scholar’s Forum (Caltech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Courier New"/>
              </a:rPr>
              <a:t>Int’l: CERN, Germany, India, Mexico, …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Courier New"/>
              </a:rPr>
              <a:t>Goal: millions of books/articles/reports / yr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Ai Philosoph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Self-archiving = 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ubmission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mechanism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Long-term storage system = 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archive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Open interface = 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harvesting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mechanism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ata provider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+ service provider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Start with “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gray literature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e-prints/pre-prints, reports, dissertations, …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9:28:47Z</dcterms:created>
  <dc:creator>MULTIMEDIA LAB</dc:creator>
  <dc:description/>
  <dc:language>en-US</dc:language>
  <cp:lastModifiedBy>Ed Fox</cp:lastModifiedBy>
  <cp:lastPrinted>1999-08-10T08:55:34Z</cp:lastPrinted>
  <dcterms:modified xsi:type="dcterms:W3CDTF">2000-10-04T12:44:21Z</dcterms:modified>
  <cp:revision>0</cp:revision>
  <dc:subject/>
  <dc:title>National Digital Library of Theses and Dissertations</dc:title>
</cp:coreProperties>
</file>